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0AC-0D5C-4CF8-864C-CC0346FF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367-5516-4429-8702-F044ADF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2B9-5A15-4BE4-8658-7A6DD370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BAC-067C-45B1-A0B3-332A8FD4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932-7346-44E9-B193-4605E5DD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013-B1F5-4315-92E6-1F61C235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3E4-2B46-4454-A0A6-E8DFD6C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70D-BC8A-4A9C-A38E-EF720B6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E16-31B7-43D2-9BFA-2E5BF78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031-37C8-4B25-A1E7-45ABBB6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C68-822F-4FF3-A31C-9A51484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64D-413E-422B-BA13-0E75E6D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F63D-BF29-41FB-BE63-9E631A199F0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8 Nič nedaj na zvodný hlas pokuš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a všemocného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ič nedaj na zvodný hlas pokušenia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riech vábi, ak nebdieš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neď v moci ťa m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vo viere stá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pomôcť vždy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dôveruj jem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záchran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a všemoc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lá spoločnosť zvádz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k v raji ten ha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k poznáš, že mál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môže t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čisté, to mil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z pravdy, ži v t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d na Krista Krá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, spása j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a všemoc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víťazov chrabr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privítať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nebude hroz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ijaký kl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zlého sa odvrá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Kristom sa s sp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ak denne môžeš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sť víťazn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11:00Z</dcterms:modified>
  <cp:revision>90</cp:revision>
  <dc:subject/>
  <dc:title>Je veľký náš Pán, on slávy je Kráľ Nech do všetkých strán  spev vrúcnych znie chvál.</dc:title>
</cp:coreProperties>
</file>